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6.wmf" ContentType="image/x-wmf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3800" cy="370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AF294-0FFF-4851-8553-4438504EC15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85101-0455-4A8D-9385-5BC2FFBB11E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5FDC-60E0-463C-8981-E6E1E39E5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C0B6-A6FF-47D4-8B3D-AF23634A0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5B86-9955-42C6-9841-64EBA4CEF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EE4A-F8C4-4CA2-AB25-0282BB6F6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C3ED0-6967-48A1-9294-AC742B616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ACC15-4932-4157-A729-3DB1EE742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D2F3E-B1C9-444B-923B-C1E150A1D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A5D7A-C069-42E8-830B-05EECC7D5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A538E-3F22-4E15-BF62-71B7F402C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653A4-8224-4A32-9869-4DA081297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27831-7D5F-46D2-8716-55E4F3BE4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4FBA-4E13-4C39-9A97-2C9EF4F92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47C63-608F-472C-BF7F-1C019DDF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89A61-03A7-4CD4-A406-D024EA51F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20E25-24E0-4147-A875-1BB4EFBD6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758EE-DC23-4194-84E6-6CBC4A7B2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42FCC-9F18-477D-98B5-A9127A100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1BD81-CEF8-4B4C-B943-268827346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C6563-CC85-48A4-B05F-D7C3A0672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7A7CB-5033-4735-8C14-83628D8B5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D3E56-8DED-4EBE-8EFD-662A5FFAE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131BA-5761-4460-B391-B3BA86563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8AB4-EF9B-4B7C-A114-42D1C3F98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57BB4-1205-4EF6-8B0F-B0CACC8BA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10A12-90B6-4784-89F4-CB760AB7B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762EB-9CDE-4BCA-B054-06306C82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7D8C6-783B-4A72-BE27-FE8C4E60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43CAE-BBDA-449D-AB3C-5343AB68B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BA284-AB6A-40D7-8DA6-E98055D2F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5A6C1-A0BC-446E-908C-C584D8D5A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16456-9FEA-45D6-9B39-E5217C78F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5EDE0-52B8-4D22-B61E-81B1C92A3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8C5C2-D26E-4682-9358-7DA1E05A1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2311-AA79-4A04-AB49-D7D2AD2EE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D6B8B-75C9-4BCD-A17E-07160D8EB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61252-9605-4EE7-9DA4-051A05BC1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040E2-FC50-4A49-889D-BBDFD31E9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DE35C-7152-4DB9-A2D4-44D31BF7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B48B6-DEB1-4E10-A362-13891610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E974E-C787-4A2A-82D8-B64F7782A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301CE-7B67-4C75-AD3E-5F2090C22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CAF8E-384D-49DE-98D0-C4677F206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9DE6F-345C-498F-B196-2675C2F63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FDD7-7DCC-41D3-A674-C55837A0F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D88B-0FB7-47A0-999B-6A5065CC9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820F-4007-48F1-8863-83410B4C4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A3D2-354B-413A-9B78-F9FB66BBC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FE42-8E06-4B2A-89D6-0BF6D0948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F0D04-1EB2-43C3-ABA5-7068975510A6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D7457-14DC-4EE6-8AF7-913B53A080B3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F5C78-7593-4B7C-AF7D-CE9F1591D139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53479-1F2C-49DE-8B99-22600C52FF21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5" descr=""/>
          <p:cNvPicPr/>
          <p:nvPr/>
        </p:nvPicPr>
        <p:blipFill>
          <a:blip r:embed="rId1"/>
          <a:stretch/>
        </p:blipFill>
        <p:spPr>
          <a:xfrm>
            <a:off x="596880" y="762120"/>
            <a:ext cx="8150400" cy="16761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arcdm"/>
          <p:cNvPicPr/>
          <p:nvPr/>
        </p:nvPicPr>
        <p:blipFill>
          <a:blip r:embed="rId2"/>
          <a:stretch/>
        </p:blipFill>
        <p:spPr>
          <a:xfrm>
            <a:off x="539640" y="5276880"/>
            <a:ext cx="897120" cy="1066680"/>
          </a:xfrm>
          <a:prstGeom prst="rect">
            <a:avLst/>
          </a:prstGeom>
          <a:ln w="0">
            <a:noFill/>
          </a:ln>
        </p:spPr>
      </p:pic>
      <p:sp>
        <p:nvSpPr>
          <p:cNvPr id="204" name="TextBox 5"/>
          <p:cNvSpPr/>
          <p:nvPr/>
        </p:nvSpPr>
        <p:spPr>
          <a:xfrm>
            <a:off x="2057400" y="5029200"/>
            <a:ext cx="667872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Магазейщикова Наталья Геннадьевна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чальник отдела статистики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правления сбора и обработки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еративной информации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У  СМК  ФМБА  России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05" name="Rectangle 5" descr=""/>
          <p:cNvPicPr/>
          <p:nvPr/>
        </p:nvPicPr>
        <p:blipFill>
          <a:blip r:embed="rId3"/>
          <a:stretch/>
        </p:blipFill>
        <p:spPr>
          <a:xfrm>
            <a:off x="566640" y="2560680"/>
            <a:ext cx="8285400" cy="22003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Прямоугольник 3"/>
          <p:cNvSpPr/>
          <p:nvPr/>
        </p:nvSpPr>
        <p:spPr>
          <a:xfrm>
            <a:off x="38160" y="4633920"/>
            <a:ext cx="904068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исла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аженных показываем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акуированных </a:t>
            </a: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26/27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питализированных </a:t>
            </a: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28/29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ибших до начала эвакуации </a:t>
            </a: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30/31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3" name="Прямоугольник 2"/>
          <p:cNvSpPr/>
          <p:nvPr/>
        </p:nvSpPr>
        <p:spPr>
          <a:xfrm>
            <a:off x="6210360" y="2286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   продолжение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44" name="Таблица 6" descr=""/>
          <p:cNvPicPr/>
          <p:nvPr/>
        </p:nvPicPr>
        <p:blipFill>
          <a:blip r:embed="rId1"/>
          <a:stretch/>
        </p:blipFill>
        <p:spPr>
          <a:xfrm>
            <a:off x="371520" y="695160"/>
            <a:ext cx="5522760" cy="3937320"/>
          </a:xfrm>
          <a:prstGeom prst="rect">
            <a:avLst/>
          </a:prstGeom>
          <a:ln w="0">
            <a:noFill/>
          </a:ln>
        </p:spPr>
      </p:pic>
      <p:sp>
        <p:nvSpPr>
          <p:cNvPr id="245" name="Прямоугольник 3"/>
          <p:cNvSpPr/>
          <p:nvPr/>
        </p:nvSpPr>
        <p:spPr>
          <a:xfrm>
            <a:off x="914400" y="4952880"/>
            <a:ext cx="17524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 000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6/7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6" name="Прямоугольник 12"/>
          <p:cNvSpPr/>
          <p:nvPr/>
        </p:nvSpPr>
        <p:spPr>
          <a:xfrm>
            <a:off x="5867280" y="1359000"/>
            <a:ext cx="3276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6/7  ≥  графа 26/27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7" name="Прямоугольник 13"/>
          <p:cNvSpPr/>
          <p:nvPr/>
        </p:nvSpPr>
        <p:spPr>
          <a:xfrm>
            <a:off x="5857920" y="1924200"/>
            <a:ext cx="3276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6/7  ≥  графа 28/2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8" name="Прямоугольник 14"/>
          <p:cNvSpPr/>
          <p:nvPr/>
        </p:nvSpPr>
        <p:spPr>
          <a:xfrm>
            <a:off x="5886360" y="2505240"/>
            <a:ext cx="3276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6/7  ≥  графа 30/31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9" name="Прямоугольник 3"/>
          <p:cNvSpPr/>
          <p:nvPr/>
        </p:nvSpPr>
        <p:spPr>
          <a:xfrm>
            <a:off x="81000" y="5546880"/>
            <a:ext cx="90406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исла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акуированных показываем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ибших в ходе эвакуации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0" name="Прямоугольник 3"/>
          <p:cNvSpPr/>
          <p:nvPr/>
        </p:nvSpPr>
        <p:spPr>
          <a:xfrm>
            <a:off x="1066680" y="5753160"/>
            <a:ext cx="2971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 000  графа 26/27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1" name="Прямоугольник 3"/>
          <p:cNvSpPr/>
          <p:nvPr/>
        </p:nvSpPr>
        <p:spPr>
          <a:xfrm>
            <a:off x="5170320" y="5757840"/>
            <a:ext cx="18939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32/33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2" name="Прямоугольник 18"/>
          <p:cNvSpPr/>
          <p:nvPr/>
        </p:nvSpPr>
        <p:spPr>
          <a:xfrm>
            <a:off x="5888160" y="3141720"/>
            <a:ext cx="326520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26/27  ≥  графа 32/33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3" name="Прямоугольник 3"/>
          <p:cNvSpPr/>
          <p:nvPr/>
        </p:nvSpPr>
        <p:spPr>
          <a:xfrm>
            <a:off x="92160" y="6110280"/>
            <a:ext cx="88232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исла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питализированных показываем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ибших в мед.организациях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4" name="Прямоугольник 3"/>
          <p:cNvSpPr/>
          <p:nvPr/>
        </p:nvSpPr>
        <p:spPr>
          <a:xfrm>
            <a:off x="990720" y="6400800"/>
            <a:ext cx="2971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 000  графа 28/29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5" name="Прямоугольник 3"/>
          <p:cNvSpPr/>
          <p:nvPr/>
        </p:nvSpPr>
        <p:spPr>
          <a:xfrm>
            <a:off x="5886360" y="6400800"/>
            <a:ext cx="1649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34/35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6" name="Прямоугольник 22"/>
          <p:cNvSpPr/>
          <p:nvPr/>
        </p:nvSpPr>
        <p:spPr>
          <a:xfrm>
            <a:off x="5856120" y="3649680"/>
            <a:ext cx="3276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28/29  ≥  графа 34/35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5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Прямоугольник 1"/>
          <p:cNvSpPr/>
          <p:nvPr/>
        </p:nvSpPr>
        <p:spPr>
          <a:xfrm>
            <a:off x="228600" y="138240"/>
            <a:ext cx="86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коечного фонда медицинских организаций в чрезвычайных ситуациях (ЧС)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8" name="Прямоугольник 2"/>
          <p:cNvSpPr/>
          <p:nvPr/>
        </p:nvSpPr>
        <p:spPr>
          <a:xfrm>
            <a:off x="232200" y="47484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59" name="Таблица 4" descr=""/>
          <p:cNvPicPr/>
          <p:nvPr/>
        </p:nvPicPr>
        <p:blipFill>
          <a:blip r:embed="rId1"/>
          <a:stretch/>
        </p:blipFill>
        <p:spPr>
          <a:xfrm>
            <a:off x="219240" y="781200"/>
            <a:ext cx="8699400" cy="4529160"/>
          </a:xfrm>
          <a:prstGeom prst="rect">
            <a:avLst/>
          </a:prstGeom>
          <a:ln w="0">
            <a:noFill/>
          </a:ln>
        </p:spPr>
      </p:pic>
      <p:sp>
        <p:nvSpPr>
          <p:cNvPr id="260" name="Прямоугольник 5"/>
          <p:cNvSpPr/>
          <p:nvPr/>
        </p:nvSpPr>
        <p:spPr>
          <a:xfrm>
            <a:off x="228600" y="52578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упивших пораженных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5000 стр.  1  графа  4 / 5 )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число госпитализированных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000  стр.  1  графа  28 / 29 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1" name="Прямоугольник 6"/>
          <p:cNvSpPr/>
          <p:nvPr/>
        </p:nvSpPr>
        <p:spPr>
          <a:xfrm>
            <a:off x="290520" y="60199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5000  стр.  1  графа  8 / 9 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число погибших (умерших) в медицинской организации 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000  стр.  1  графа  34 / 35 )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2" name="Прямоугольник 6"/>
          <p:cNvSpPr/>
          <p:nvPr/>
        </p:nvSpPr>
        <p:spPr>
          <a:xfrm>
            <a:off x="2514600" y="2416320"/>
            <a:ext cx="6400800" cy="17704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5 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17 (графа 10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≤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17 (графа с 4 по 9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4/5 = графа 6/7 + 8/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8" dur="125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340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346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353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3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6250"/>
                            </p:stCondLst>
                            <p:childTnLst>
                              <p:par>
                                <p:cTn id="3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Box 1"/>
          <p:cNvSpPr/>
          <p:nvPr/>
        </p:nvSpPr>
        <p:spPr>
          <a:xfrm>
            <a:off x="857160" y="860400"/>
            <a:ext cx="790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чет среднегодовых коек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55 форма, табл. 5 000 гр. 3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147600" y="3505320"/>
          <a:ext cx="8637480" cy="669960"/>
        </p:xfrm>
        <a:graphic>
          <a:graphicData uri="http://schemas.openxmlformats.org/drawingml/2006/table">
            <a:tbl>
              <a:tblPr/>
              <a:tblGrid>
                <a:gridCol w="4464000"/>
                <a:gridCol w="360360"/>
                <a:gridCol w="647640"/>
                <a:gridCol w="505080"/>
                <a:gridCol w="1008000"/>
                <a:gridCol w="287280"/>
                <a:gridCol w="1365120"/>
              </a:tblGrid>
              <a:tr h="335520">
                <a:tc>
                  <a:txBody>
                    <a:bodyPr lIns="43920" rIns="439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 коек х 3 дня  + 10 коек х 2 дн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920" rIns="439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2 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 койк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2920"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           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1 ден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395280" y="5334120"/>
          <a:ext cx="7993080" cy="1008000"/>
        </p:xfrm>
        <a:graphic>
          <a:graphicData uri="http://schemas.openxmlformats.org/drawingml/2006/table">
            <a:tbl>
              <a:tblPr/>
              <a:tblGrid>
                <a:gridCol w="2851200"/>
                <a:gridCol w="460440"/>
                <a:gridCol w="593640"/>
                <a:gridCol w="388800"/>
                <a:gridCol w="1825920"/>
                <a:gridCol w="255240"/>
                <a:gridCol w="1617840"/>
              </a:tblGrid>
              <a:tr h="505080">
                <a:tc>
                  <a:txBody>
                    <a:bodyPr lIns="53280" rIns="53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  + 1,5  + 0,5 + 2,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3280" rIns="53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,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48 койки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5 койк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2920">
                <a:tc>
                  <a:txBody>
                    <a:bodyPr lIns="53280" rIns="53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3280" marR="53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3280" rIns="53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3280" marR="53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6" name="Rectangle 1"/>
          <p:cNvSpPr/>
          <p:nvPr/>
        </p:nvSpPr>
        <p:spPr>
          <a:xfrm>
            <a:off x="395280" y="1827360"/>
            <a:ext cx="8143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Расчет среднемесячных коек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январе было развернуто: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января – 8 коек             8 января – 10 коек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января – 8 коек             9 января – 10 коек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января – 8 коек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7" name="TextBox 5"/>
          <p:cNvSpPr/>
          <p:nvPr/>
        </p:nvSpPr>
        <p:spPr>
          <a:xfrm>
            <a:off x="395280" y="4267080"/>
            <a:ext cx="8501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Расчет среднегодовых коек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январе – 1,4 койки, в марте – 1,5 койки, в сентябре - 0,5 койки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екабре – 2,4 койки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0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1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1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9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1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1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1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1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1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0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Прямоугольник 2"/>
          <p:cNvSpPr/>
          <p:nvPr/>
        </p:nvSpPr>
        <p:spPr>
          <a:xfrm>
            <a:off x="1160640" y="1295280"/>
            <a:ext cx="6992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работе учебного центра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9" name="Прямоугольник 1"/>
          <p:cNvSpPr/>
          <p:nvPr/>
        </p:nvSpPr>
        <p:spPr>
          <a:xfrm>
            <a:off x="460800" y="213372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419040" y="2743200"/>
          <a:ext cx="8553600" cy="1279440"/>
        </p:xfrm>
        <a:graphic>
          <a:graphicData uri="http://schemas.openxmlformats.org/drawingml/2006/table">
            <a:tbl>
              <a:tblPr/>
              <a:tblGrid>
                <a:gridCol w="735120"/>
                <a:gridCol w="1031760"/>
                <a:gridCol w="735120"/>
                <a:gridCol w="641160"/>
                <a:gridCol w="685800"/>
                <a:gridCol w="685800"/>
                <a:gridCol w="762120"/>
                <a:gridCol w="1027080"/>
                <a:gridCol w="752400"/>
                <a:gridCol w="1497240"/>
              </a:tblGrid>
              <a:tr h="213480">
                <a:tc gridSpan="2" rowSpan="2"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ведено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ебных цик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учено приемам оказания первой помощ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исло задействованных преподав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трудник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драбо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д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ч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720"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т.ч. выезд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Ч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В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М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ч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1" name="Прямоугольник 4"/>
          <p:cNvSpPr/>
          <p:nvPr/>
        </p:nvSpPr>
        <p:spPr>
          <a:xfrm>
            <a:off x="476280" y="495288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 6 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3</a:t>
            </a:r>
            <a:r>
              <a:rPr b="1" lang="ru-RU" sz="2000" spc="-1" strike="noStrike">
                <a:solidFill>
                  <a:srgbClr val="ff0000"/>
                </a:solidFill>
                <a:latin typeface="Garamond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4 + 5 + 6 + 7 + 8  + 9 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0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8" dur="125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30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36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443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Прямоугольник 1"/>
          <p:cNvSpPr/>
          <p:nvPr/>
        </p:nvSpPr>
        <p:spPr>
          <a:xfrm>
            <a:off x="290880" y="81612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3" name="Прямоугольник 2"/>
          <p:cNvSpPr/>
          <p:nvPr/>
        </p:nvSpPr>
        <p:spPr>
          <a:xfrm>
            <a:off x="152280" y="228600"/>
            <a:ext cx="883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проведенных учениях, тренировках и занятиях в ТЦМК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282600" y="1335240"/>
          <a:ext cx="8686800" cy="4449600"/>
        </p:xfrm>
        <a:graphic>
          <a:graphicData uri="http://schemas.openxmlformats.org/drawingml/2006/table">
            <a:tbl>
              <a:tblPr/>
              <a:tblGrid>
                <a:gridCol w="3733920"/>
                <a:gridCol w="685800"/>
                <a:gridCol w="685800"/>
                <a:gridCol w="1066680"/>
                <a:gridCol w="1219320"/>
                <a:gridCol w="1295280"/>
              </a:tblGrid>
              <a:tr h="243720">
                <a:tc rowSpan="2"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чрезвычайной ситуаци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ЧС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учений (тренировок, заняти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андно-штабные у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бные трениров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тико-специальные у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огенные ЧС -  всего, 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пассажирских поездов и поездов метрополите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иационные катастроф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на автодорог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водного транспор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жары и взрыв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с выбросом АХ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с выбросом Р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с выбросом ОБ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рочие техногенные Ч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родные Ч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к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5" name="Прямоугольник 4"/>
          <p:cNvSpPr/>
          <p:nvPr/>
        </p:nvSpPr>
        <p:spPr>
          <a:xfrm>
            <a:off x="228600" y="579132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чений (тренировок, занятий) всего  =  число командно-штабных учений +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штабных тренировок +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тактико-специальных учений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6" name="Прямоугольник 6"/>
          <p:cNvSpPr/>
          <p:nvPr/>
        </p:nvSpPr>
        <p:spPr>
          <a:xfrm>
            <a:off x="4724280" y="2666880"/>
            <a:ext cx="4267440" cy="13132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6 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1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14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 + 11 + 12 + 13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7" name="Прямоугольник 7"/>
          <p:cNvSpPr/>
          <p:nvPr/>
        </p:nvSpPr>
        <p:spPr>
          <a:xfrm>
            <a:off x="4724280" y="3990960"/>
            <a:ext cx="4267440" cy="5511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6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3 = графа 4 + 5 + 6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0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4" dur="125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56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62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1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469" nodeType="afterEffect" fill="hold" presetClass="entr" presetID="42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475" nodeType="after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Прямоугольник 1"/>
          <p:cNvSpPr/>
          <p:nvPr/>
        </p:nvSpPr>
        <p:spPr>
          <a:xfrm>
            <a:off x="304920" y="38088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трассовых пунктов экстренной медицинской помощ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9" name="Прямоугольник 2"/>
          <p:cNvSpPr/>
          <p:nvPr/>
        </p:nvSpPr>
        <p:spPr>
          <a:xfrm>
            <a:off x="384480" y="114444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752480"/>
          <a:ext cx="8229600" cy="4389480"/>
        </p:xfrm>
        <a:graphic>
          <a:graphicData uri="http://schemas.openxmlformats.org/drawingml/2006/table">
            <a:tbl>
              <a:tblPr/>
              <a:tblGrid>
                <a:gridCol w="6705720"/>
                <a:gridCol w="762120"/>
                <a:gridCol w="761760"/>
              </a:tblGrid>
              <a:tr h="487080"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ссовые пункты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трассовые пункты территориальных центров медицины катастро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овов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е, которым оказана была медицинская помощь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вакуировано всего,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питализировано всего,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е, которым оказана помощь авиамедицинской бригадой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шие во время медицинской эвакуации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мерших во время санитарно-авиационной эвакуации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sh dir="u"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0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1" dur="125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93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99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Box 5"/>
          <p:cNvSpPr/>
          <p:nvPr/>
        </p:nvSpPr>
        <p:spPr>
          <a:xfrm>
            <a:off x="2468520" y="76212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ОРМА № 56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2" name="TextBox 5"/>
          <p:cNvSpPr/>
          <p:nvPr/>
        </p:nvSpPr>
        <p:spPr>
          <a:xfrm>
            <a:off x="247680" y="1676520"/>
            <a:ext cx="83059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СВЕДЕНИЯ  О ДЕЯТЕЛЬНОСТИ  ОТДЕЛЕНИЯ  ЭКСТРЕННОЙ КОНСУЛЬТАТИВНОЙ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МЕДИЦИНСКОЙ  ПОМОЩИ И </a:t>
            </a: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МЕДИЦИНСКОЙ ЭВАКУАЦИИ</a:t>
            </a: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за  2020  год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0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0" dur="2000" fill="hold"/>
                                        <p:tgtEl>
                                          <p:spTgt spid="2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13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514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515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Прямоугольник 1"/>
          <p:cNvSpPr/>
          <p:nvPr/>
        </p:nvSpPr>
        <p:spPr>
          <a:xfrm>
            <a:off x="609480" y="763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б отделении экстренной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44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онсультативной медицинской помощ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4" name="Прямоугольник 2"/>
          <p:cNvSpPr/>
          <p:nvPr/>
        </p:nvSpPr>
        <p:spPr>
          <a:xfrm>
            <a:off x="374040" y="75888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380880" y="1114560"/>
          <a:ext cx="8001000" cy="4543200"/>
        </p:xfrm>
        <a:graphic>
          <a:graphicData uri="http://schemas.openxmlformats.org/drawingml/2006/table">
            <a:tbl>
              <a:tblPr/>
              <a:tblGrid>
                <a:gridCol w="6416640"/>
                <a:gridCol w="677880"/>
                <a:gridCol w="906480"/>
              </a:tblGrid>
              <a:tr h="6397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метка 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ет – 0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- 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й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на баз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медицины катастро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на базе областной, краевой, республиканской, окружной больниц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, краевой, республиканской, окружной больницы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лиалов отделений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на базе муниципальных образований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медицины катастро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, краевой, республиканской, окружной больницы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х медицинских организ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й, оказывающие медицинскую помощь детям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на баз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медицины катастро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, краевой, республиканской, окружной детской больницы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11)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нимационно-консультативный цен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ездные бригады перинатального цент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6" name="Прямоугольник 4"/>
          <p:cNvSpPr/>
          <p:nvPr/>
        </p:nvSpPr>
        <p:spPr>
          <a:xfrm>
            <a:off x="338040" y="5715000"/>
            <a:ext cx="370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1000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5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6 + 7 + 8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7" name="Прямоугольник 5"/>
          <p:cNvSpPr/>
          <p:nvPr/>
        </p:nvSpPr>
        <p:spPr>
          <a:xfrm>
            <a:off x="4572000" y="58672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 1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≥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9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 9 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≥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0 + 1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1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≥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0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2" dur="125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24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530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1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537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1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1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Прямоугольник 1"/>
          <p:cNvSpPr/>
          <p:nvPr/>
        </p:nvSpPr>
        <p:spPr>
          <a:xfrm>
            <a:off x="76320" y="189000"/>
            <a:ext cx="906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кадрах отделения экстренной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онсультативной медицинской помощ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9" name="Прямоугольник 2"/>
          <p:cNvSpPr/>
          <p:nvPr/>
        </p:nvSpPr>
        <p:spPr>
          <a:xfrm>
            <a:off x="384480" y="83808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380880" y="1219320"/>
          <a:ext cx="8534520" cy="5165640"/>
        </p:xfrm>
        <a:graphic>
          <a:graphicData uri="http://schemas.openxmlformats.org/drawingml/2006/table">
            <a:tbl>
              <a:tblPr/>
              <a:tblGrid>
                <a:gridCol w="2590920"/>
                <a:gridCol w="762120"/>
                <a:gridCol w="685800"/>
                <a:gridCol w="761760"/>
                <a:gridCol w="1295640"/>
                <a:gridCol w="761760"/>
                <a:gridCol w="609840"/>
                <a:gridCol w="533160"/>
                <a:gridCol w="533520"/>
              </a:tblGrid>
              <a:tr h="73044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                                         статус спас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лификационн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тегор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7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 marL="34920" indent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рур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атологи-ортопе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йрохирур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зиологи-реанимат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ы-гинек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ди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онис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ксик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ие хирур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нат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555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персонал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555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льдшер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555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сест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,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лжнос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1" name="Прямоугольник 4"/>
          <p:cNvSpPr/>
          <p:nvPr/>
        </p:nvSpPr>
        <p:spPr>
          <a:xfrm>
            <a:off x="4419720" y="3036960"/>
            <a:ext cx="4495680" cy="23799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2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=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14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5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≥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6 + 17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9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5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5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≥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7 + 8 + 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0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3" dur="125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55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561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1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56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Прямоугольник 1"/>
          <p:cNvSpPr/>
          <p:nvPr/>
        </p:nvSpPr>
        <p:spPr>
          <a:xfrm>
            <a:off x="268560" y="66024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3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3" name="Прямоугольник 2"/>
          <p:cNvSpPr/>
          <p:nvPr/>
        </p:nvSpPr>
        <p:spPr>
          <a:xfrm>
            <a:off x="0" y="763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отделения экстренной и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тивной медицинской помощи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304920" y="1146240"/>
          <a:ext cx="8686800" cy="1903320"/>
        </p:xfrm>
        <a:graphic>
          <a:graphicData uri="http://schemas.openxmlformats.org/drawingml/2006/table">
            <a:tbl>
              <a:tblPr/>
              <a:tblGrid>
                <a:gridCol w="609480"/>
                <a:gridCol w="533520"/>
                <a:gridCol w="533160"/>
                <a:gridCol w="533520"/>
                <a:gridCol w="609480"/>
                <a:gridCol w="914400"/>
                <a:gridCol w="533520"/>
                <a:gridCol w="533520"/>
                <a:gridCol w="533160"/>
                <a:gridCol w="533520"/>
                <a:gridCol w="533520"/>
                <a:gridCol w="609480"/>
                <a:gridCol w="533520"/>
                <a:gridCol w="533160"/>
                <a:gridCol w="609840"/>
              </a:tblGrid>
              <a:tr h="182880">
                <a:tc rowSpan="9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 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9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ана медицинская помощь,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8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8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ми работника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огоспитальном этап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7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м в Ч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м в ДТ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5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228600" y="3352680"/>
          <a:ext cx="8686800" cy="1684440"/>
        </p:xfrm>
        <a:graphic>
          <a:graphicData uri="http://schemas.openxmlformats.org/drawingml/2006/table">
            <a:tbl>
              <a:tblPr/>
              <a:tblGrid>
                <a:gridCol w="826920"/>
                <a:gridCol w="773280"/>
                <a:gridCol w="685800"/>
                <a:gridCol w="762120"/>
                <a:gridCol w="1066680"/>
                <a:gridCol w="1219320"/>
                <a:gridCol w="1143000"/>
                <a:gridCol w="1143000"/>
                <a:gridCol w="1066680"/>
              </a:tblGrid>
              <a:tr h="182880">
                <a:tc gridSpan="9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ана медицинская помощь,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gridSpan="9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3960">
                <a:tc rowSpan="6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м в Ч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м в ДТ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8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320"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6" name="Прямоугольник 6"/>
          <p:cNvSpPr/>
          <p:nvPr/>
        </p:nvSpPr>
        <p:spPr>
          <a:xfrm>
            <a:off x="7010280" y="30481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ение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7" name="Прямоугольник 7"/>
          <p:cNvSpPr/>
          <p:nvPr/>
        </p:nvSpPr>
        <p:spPr>
          <a:xfrm>
            <a:off x="206280" y="518148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ана медицинская помощь, человек  ВСЕГО  = 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 оказанной  медицинской помощи на догоспитальном  этапе (всего) +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в стационарных  условиях  (всего)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8" name="Прямоугольник 10"/>
          <p:cNvSpPr/>
          <p:nvPr/>
        </p:nvSpPr>
        <p:spPr>
          <a:xfrm>
            <a:off x="163440" y="6087960"/>
            <a:ext cx="8763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таблица 3000  графа  3 /(4/5)</a:t>
            </a:r>
            <a:r>
              <a:rPr b="1" lang="ru-RU" sz="2200" spc="-1" strike="noStrike">
                <a:solidFill>
                  <a:srgbClr val="ff0000"/>
                </a:solidFill>
                <a:latin typeface="Garamond"/>
              </a:rPr>
              <a:t>  = 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таблица 3000  графа   7  (8/9) +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+ 16 (17/18)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0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9" dur="125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81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587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1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1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1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1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1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606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1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1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61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Box 5"/>
          <p:cNvSpPr/>
          <p:nvPr/>
        </p:nvSpPr>
        <p:spPr>
          <a:xfrm>
            <a:off x="2438280" y="1066680"/>
            <a:ext cx="436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ОРМА № 55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TextBox 5"/>
          <p:cNvSpPr/>
          <p:nvPr/>
        </p:nvSpPr>
        <p:spPr>
          <a:xfrm>
            <a:off x="762120" y="2057400"/>
            <a:ext cx="76197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СВЕДЕНИЯ  О ДЕЯТЕЛЬНОСТИ   СЛУЖБЫ МЕДИЦИНЫ  КАТАСТРОФ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СУБЪЕКТА  РОССИЙСКОЙ ФЕДЕРАЦИИ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за  2020  год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" dur="2000" fill="hold"/>
                                        <p:tgtEl>
                                          <p:spTgt spid="2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8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44,6,21)"/>
                                      </p:to>
                                    </p:set>
                                    <p:set>
                                      <p:cBhvr>
                                        <p:cTn id="29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44,6,21)"/>
                                      </p:to>
                                    </p:set>
                                    <p:set>
                                      <p:cBhvr>
                                        <p:cTn id="30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9" name=""/>
          <p:cNvGraphicFramePr/>
          <p:nvPr/>
        </p:nvGraphicFramePr>
        <p:xfrm>
          <a:off x="152280" y="762120"/>
          <a:ext cx="6096240" cy="5776920"/>
        </p:xfrm>
        <a:graphic>
          <a:graphicData uri="http://schemas.openxmlformats.org/drawingml/2006/table">
            <a:tbl>
              <a:tblPr/>
              <a:tblGrid>
                <a:gridCol w="5486400"/>
                <a:gridCol w="609840"/>
              </a:tblGrid>
              <a:tr h="3963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marL="20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получивших  экстренную консультативную медицинскую помощь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получивших санитарно-авиационную помощь      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нсультаций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заочные консультации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по телефону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электронной почт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применением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технологий, всего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телемедицинские консульт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нет-консульт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чные консультации, всего,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 проведением:                                                           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рургических операци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нимационных мероприяти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эвакуированных лиц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авиационным транспортом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итарным автотранспорто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м транспорто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о для оказания медицинской помощи в стационарных услов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при медицинской эваку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поступивших заявок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о заявок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иационным транспортом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итарным транспорто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м транспортом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0" name="Прямоугольник 5"/>
          <p:cNvSpPr/>
          <p:nvPr/>
        </p:nvSpPr>
        <p:spPr>
          <a:xfrm>
            <a:off x="76320" y="22860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000 продолжение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1" name="Прямоугольник 5"/>
          <p:cNvSpPr/>
          <p:nvPr/>
        </p:nvSpPr>
        <p:spPr>
          <a:xfrm>
            <a:off x="6248520" y="1600200"/>
            <a:ext cx="2819160" cy="42087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3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1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≥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стр.2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3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4 + 1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4  = стр.5 + 6 + 7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7  = стр.8+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10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≥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стр.11+12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13=стр.14+15+16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20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≥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21+22+23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0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7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1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34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1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7" dur="1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Прямоугольник 5"/>
          <p:cNvSpPr/>
          <p:nvPr/>
        </p:nvSpPr>
        <p:spPr>
          <a:xfrm>
            <a:off x="5335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1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3" name="Прямоугольник 1"/>
          <p:cNvSpPr/>
          <p:nvPr/>
        </p:nvSpPr>
        <p:spPr>
          <a:xfrm>
            <a:off x="1600200" y="312408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ставлено: 1 – препаратов крови (л.) __________,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 – медицинских грузов (тн.) __________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nodeType="clickEffect" fill="hold">
                      <p:stCondLst>
                        <p:cond delay="0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9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1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2"/>
          <p:cNvSpPr/>
          <p:nvPr/>
        </p:nvSpPr>
        <p:spPr>
          <a:xfrm>
            <a:off x="274680" y="1440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выездной работе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еления экстренной и консультативной медицинской помощи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5" name="Прямоугольник 1"/>
          <p:cNvSpPr/>
          <p:nvPr/>
        </p:nvSpPr>
        <p:spPr>
          <a:xfrm>
            <a:off x="115200" y="53640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4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06" name="Picture 2" descr=""/>
          <p:cNvPicPr/>
          <p:nvPr/>
        </p:nvPicPr>
        <p:blipFill>
          <a:blip r:embed="rId1"/>
          <a:stretch/>
        </p:blipFill>
        <p:spPr>
          <a:xfrm>
            <a:off x="19080" y="798480"/>
            <a:ext cx="9037440" cy="5410080"/>
          </a:xfrm>
          <a:prstGeom prst="rect">
            <a:avLst/>
          </a:prstGeom>
          <a:ln w="0">
            <a:noFill/>
          </a:ln>
        </p:spPr>
      </p:pic>
      <p:sp>
        <p:nvSpPr>
          <p:cNvPr id="307" name="Прямоугольник 7"/>
          <p:cNvSpPr/>
          <p:nvPr/>
        </p:nvSpPr>
        <p:spPr>
          <a:xfrm>
            <a:off x="2389320" y="3048120"/>
            <a:ext cx="6172200" cy="6426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4000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1=стр.2+3+4+5+6+7+8+9+10+11+12+13+14+15+16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8" name="Прямоугольник 8"/>
          <p:cNvSpPr/>
          <p:nvPr/>
        </p:nvSpPr>
        <p:spPr>
          <a:xfrm>
            <a:off x="2389320" y="3710160"/>
            <a:ext cx="6172200" cy="19234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 9   =   графа  15 + 21 + 27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0  =   графа  16 + 22 + 28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1  =   графа  17 + 23 + 2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2  =   графа  18 + 24 + 3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3  =   графа  19 + 25 + 31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4  =   графа  20 + 26 + 32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9" name="Прямоугольник 4"/>
          <p:cNvSpPr/>
          <p:nvPr/>
        </p:nvSpPr>
        <p:spPr>
          <a:xfrm>
            <a:off x="1523880" y="5668920"/>
            <a:ext cx="7467840" cy="106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эвакуированных всего =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числу эвакуированных в   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егиональные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ежрайонные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едеральные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ие организации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0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1" dur="125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663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669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1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676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1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687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1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0" dur="1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Прямоугольник 2"/>
          <p:cNvSpPr/>
          <p:nvPr/>
        </p:nvSpPr>
        <p:spPr>
          <a:xfrm>
            <a:off x="1676520" y="8380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ТАБЛИЧНЫЙ    КОНТРОЛЬ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1" name="Прямоугольник 4"/>
          <p:cNvSpPr/>
          <p:nvPr/>
        </p:nvSpPr>
        <p:spPr>
          <a:xfrm>
            <a:off x="233280" y="17524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получивших экстренную консультативную медицинскую помощь, пострадавшим в ЧС=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числу оказанной экстренной консультативной медицинской помощи,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адавшим в ЧС 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2" name="Прямоугольник 1"/>
          <p:cNvSpPr/>
          <p:nvPr/>
        </p:nvSpPr>
        <p:spPr>
          <a:xfrm>
            <a:off x="271440" y="304812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3 000  стр. 1 гр. 10 (11/12) + стр. 1 гр. 19(20/21) =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= таблица 4 000  стр. 1 гр. 6 (7/8)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3" name="Прямоугольник 4"/>
          <p:cNvSpPr/>
          <p:nvPr/>
        </p:nvSpPr>
        <p:spPr>
          <a:xfrm>
            <a:off x="195120" y="41734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эвакуированных отделениями экстренной и консультативной медицинской помощи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4" name="Прямоугольник 1"/>
          <p:cNvSpPr/>
          <p:nvPr/>
        </p:nvSpPr>
        <p:spPr>
          <a:xfrm>
            <a:off x="233280" y="495288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3 000  стр. 13 гр.3 (4/5) = таблица 4 000  стр. 1 гр. 9 (10/11)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nodeType="clickEffect" fill="hold">
                      <p:stCondLst>
                        <p:cond delay="0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2" nodeType="after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1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1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1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1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13" nodeType="after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1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1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1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1" dur="1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5440" y="4680"/>
            <a:ext cx="367848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БРАЗЕЦ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TextBox 5"/>
          <p:cNvSpPr/>
          <p:nvPr/>
        </p:nvSpPr>
        <p:spPr>
          <a:xfrm>
            <a:off x="366840" y="99072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шифровка ФОРМА №55, таблица 2000 (стр. 29, 40)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685800" y="1752480"/>
          <a:ext cx="7948440" cy="2951280"/>
        </p:xfrm>
        <a:graphic>
          <a:graphicData uri="http://schemas.openxmlformats.org/drawingml/2006/table">
            <a:tbl>
              <a:tblPr/>
              <a:tblGrid>
                <a:gridCol w="2004840"/>
                <a:gridCol w="609840"/>
                <a:gridCol w="761760"/>
                <a:gridCol w="685800"/>
                <a:gridCol w="914400"/>
                <a:gridCol w="838440"/>
                <a:gridCol w="761760"/>
                <a:gridCol w="685800"/>
                <a:gridCol w="685800"/>
              </a:tblGrid>
              <a:tr h="63000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е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статус спасателя (из гр. 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квалификационную категор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9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врач-методи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персонал– всег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8760" rIns="68760" tIns="0" bIns="0" anchor="b">
                      <a:noAutofit/>
                    </a:bodyPr>
                    <a:p>
                      <a:pPr marL="128520" indent="254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диспетч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 marL="128520" indent="254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бухгалт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8" name=""/>
          <p:cNvGraphicFramePr/>
          <p:nvPr/>
        </p:nvGraphicFramePr>
        <p:xfrm>
          <a:off x="609480" y="4952880"/>
          <a:ext cx="8015400" cy="1252800"/>
        </p:xfrm>
        <a:graphic>
          <a:graphicData uri="http://schemas.openxmlformats.org/drawingml/2006/table">
            <a:tbl>
              <a:tblPr/>
              <a:tblGrid>
                <a:gridCol w="2340000"/>
                <a:gridCol w="274680"/>
                <a:gridCol w="2616120"/>
                <a:gridCol w="276480"/>
                <a:gridCol w="2508120"/>
              </a:tblGrid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должност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Ф.И.О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подпис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1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il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_________________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____» _________20__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омер контактного телефон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дата состав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кумент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9" name="Прямоугольник 6"/>
          <p:cNvSpPr/>
          <p:nvPr/>
        </p:nvSpPr>
        <p:spPr>
          <a:xfrm rot="19653000">
            <a:off x="3484080" y="5149800"/>
            <a:ext cx="2362320" cy="609480"/>
          </a:xfrm>
          <a:prstGeom prst="rect">
            <a:avLst/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П Е Ч А Т Ь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0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afterEffect" fill="hold" presetClass="emph" presetID="32" repeatCount="1000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728" dur="1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29" dur="3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30" dur="3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31" dur="3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32" dur="3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6"/>
          <p:cNvSpPr/>
          <p:nvPr/>
        </p:nvSpPr>
        <p:spPr>
          <a:xfrm>
            <a:off x="1258920" y="1413000"/>
            <a:ext cx="597708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33711"/>
                </a:solidFill>
                <a:latin typeface="Arial"/>
              </a:rPr>
              <a:t>Благодарю</a:t>
            </a:r>
            <a:br>
              <a:rPr sz="6000"/>
            </a:br>
            <a:r>
              <a:rPr b="1" i="1" lang="ru-RU" sz="6000" spc="-1" strike="noStrike">
                <a:solidFill>
                  <a:srgbClr val="f33711"/>
                </a:solidFill>
                <a:latin typeface="Arial"/>
              </a:rPr>
              <a:t>за </a:t>
            </a:r>
            <a:br>
              <a:rPr sz="6000"/>
            </a:br>
            <a:r>
              <a:rPr b="1" i="1" lang="ru-RU" sz="6000" spc="-1" strike="noStrike">
                <a:solidFill>
                  <a:srgbClr val="f33711"/>
                </a:solidFill>
                <a:latin typeface="Arial"/>
              </a:rPr>
              <a:t>внимание!</a:t>
            </a:r>
            <a:endParaRPr b="0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1" name="Прямоугольник 2"/>
          <p:cNvSpPr/>
          <p:nvPr/>
        </p:nvSpPr>
        <p:spPr>
          <a:xfrm>
            <a:off x="125280" y="4724280"/>
            <a:ext cx="859968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ГБУ ВЦМК «ЗАЩИТА»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ел статистики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я сбора и обработки оперативной информации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У  СМК  ФМБА Росси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л. 8 (499) 190-46-11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nodeType="clickEffect" fill="hold">
                      <p:stCondLst>
                        <p:cond delay="0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afterEffect" fill="hold" presetClass="entr" presetID="4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3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оугольник 1"/>
          <p:cNvSpPr/>
          <p:nvPr/>
        </p:nvSpPr>
        <p:spPr>
          <a:xfrm>
            <a:off x="1676520" y="46656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центре медицины катастроф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347760" y="1206360"/>
          <a:ext cx="8262720" cy="4524480"/>
        </p:xfrm>
        <a:graphic>
          <a:graphicData uri="http://schemas.openxmlformats.org/drawingml/2006/table">
            <a:tbl>
              <a:tblPr/>
              <a:tblGrid>
                <a:gridCol w="5638680"/>
                <a:gridCol w="838080"/>
                <a:gridCol w="1785960"/>
              </a:tblGrid>
              <a:tr h="619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метка 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ет – 0, да - 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ус: самостоятельный цент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лиал центра медицины катастро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 на базе медицинской орган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, краевой, республиканской, окружн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ск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ской скорой медицинской помощ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скорой медицинской помощ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ей медицинской орган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дчиненност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риториаль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район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региональ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ской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Прямоугольник 3"/>
          <p:cNvSpPr/>
          <p:nvPr/>
        </p:nvSpPr>
        <p:spPr>
          <a:xfrm>
            <a:off x="471960" y="83664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1" name="Прямоугольник 4"/>
          <p:cNvSpPr/>
          <p:nvPr/>
        </p:nvSpPr>
        <p:spPr>
          <a:xfrm>
            <a:off x="369720" y="5715000"/>
            <a:ext cx="815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1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стр.  3</a:t>
            </a:r>
            <a:r>
              <a:rPr b="1" lang="ru-RU" sz="2000" spc="-1" strike="noStrike">
                <a:solidFill>
                  <a:srgbClr val="ff0000"/>
                </a:solidFill>
                <a:latin typeface="Garamond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стр.  4 + 5 + 6 + 7 + 8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стр.  9</a:t>
            </a:r>
            <a:r>
              <a:rPr b="1" lang="ru-RU" sz="2000" spc="-1" strike="noStrike">
                <a:solidFill>
                  <a:srgbClr val="ff0000"/>
                </a:solidFill>
                <a:latin typeface="Garamond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стр.  10 + 11 + 12 + 13 + 14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125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39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5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5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"/>
          <p:cNvSpPr/>
          <p:nvPr/>
        </p:nvSpPr>
        <p:spPr>
          <a:xfrm>
            <a:off x="1143000" y="5112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кадрах центров медицины катастроф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3" name="Прямоугольник 2"/>
          <p:cNvSpPr/>
          <p:nvPr/>
        </p:nvSpPr>
        <p:spPr>
          <a:xfrm>
            <a:off x="349560" y="99072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304920" y="1371600"/>
          <a:ext cx="8458200" cy="4738680"/>
        </p:xfrm>
        <a:graphic>
          <a:graphicData uri="http://schemas.openxmlformats.org/drawingml/2006/table">
            <a:tbl>
              <a:tblPr/>
              <a:tblGrid>
                <a:gridCol w="2438280"/>
                <a:gridCol w="609480"/>
                <a:gridCol w="533520"/>
                <a:gridCol w="514440"/>
                <a:gridCol w="1085760"/>
                <a:gridCol w="914400"/>
                <a:gridCol w="838080"/>
                <a:gridCol w="762120"/>
                <a:gridCol w="762120"/>
              </a:tblGrid>
              <a:tr h="63972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е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статус спаса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квалификационную категор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всего   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в том числе: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ы с высши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медицински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нием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изо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ицинск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онал - всег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рмацев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адший медицинский персон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персонал– всег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Прямоугольник 4"/>
          <p:cNvSpPr/>
          <p:nvPr/>
        </p:nvSpPr>
        <p:spPr>
          <a:xfrm>
            <a:off x="3429000" y="3048120"/>
            <a:ext cx="5334120" cy="1313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2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2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43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0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2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3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8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9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5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≥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7 + 8 + 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125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65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71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7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Прямоугольник 1"/>
          <p:cNvSpPr/>
          <p:nvPr/>
        </p:nvSpPr>
        <p:spPr>
          <a:xfrm>
            <a:off x="685800" y="6858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я службы медицины катастроф (СМК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7" name="Прямоугольник 2"/>
          <p:cNvSpPr/>
          <p:nvPr/>
        </p:nvSpPr>
        <p:spPr>
          <a:xfrm>
            <a:off x="197280" y="132876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18" name="Таблица 3" descr=""/>
          <p:cNvPicPr/>
          <p:nvPr/>
        </p:nvPicPr>
        <p:blipFill>
          <a:blip r:embed="rId1"/>
          <a:stretch/>
        </p:blipFill>
        <p:spPr>
          <a:xfrm>
            <a:off x="219240" y="1689120"/>
            <a:ext cx="8712000" cy="1785960"/>
          </a:xfrm>
          <a:prstGeom prst="rect">
            <a:avLst/>
          </a:prstGeom>
          <a:ln w="0">
            <a:noFill/>
          </a:ln>
        </p:spPr>
      </p:pic>
      <p:sp>
        <p:nvSpPr>
          <p:cNvPr id="219" name="Прямоугольник 4"/>
          <p:cNvSpPr/>
          <p:nvPr/>
        </p:nvSpPr>
        <p:spPr>
          <a:xfrm>
            <a:off x="222120" y="3633840"/>
            <a:ext cx="88455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 графе 3 указываем число всех формирований СМК</a:t>
            </a:r>
            <a:endParaRPr b="0" lang="en-US" sz="21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 графе 4 указываем число формирований, состоящих в штате ЦМК</a:t>
            </a:r>
            <a:endParaRPr b="0" lang="en-US" sz="2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0" name="Прямоугольник 4"/>
          <p:cNvSpPr/>
          <p:nvPr/>
        </p:nvSpPr>
        <p:spPr>
          <a:xfrm>
            <a:off x="184320" y="4572000"/>
            <a:ext cx="87217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ах 3 и 4 </a:t>
            </a:r>
            <a:r>
              <a:rPr b="1" lang="ru-RU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казываем число формирований задействованных в СМК (на конец отчетного года).</a:t>
            </a:r>
            <a:endParaRPr b="0" lang="en-US" sz="23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Прямоугольник 4"/>
          <p:cNvSpPr/>
          <p:nvPr/>
        </p:nvSpPr>
        <p:spPr>
          <a:xfrm>
            <a:off x="184320" y="5486400"/>
            <a:ext cx="866448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ах 5 и 6</a:t>
            </a:r>
            <a:r>
              <a:rPr b="1" lang="ru-RU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указываем количество выездов формирований СМК  на ликвидацию медико-санитарных последствий ЧС.</a:t>
            </a:r>
            <a:endParaRPr b="0" lang="en-US" sz="23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125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91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97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110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6750"/>
                            </p:stCondLst>
                            <p:childTnLst>
                              <p:par>
                                <p:cTn id="116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Прямоугольник 1"/>
          <p:cNvSpPr/>
          <p:nvPr/>
        </p:nvSpPr>
        <p:spPr>
          <a:xfrm>
            <a:off x="533520" y="1126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я службы медицины катастроф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МК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3" name="Прямоугольник 2"/>
          <p:cNvSpPr/>
          <p:nvPr/>
        </p:nvSpPr>
        <p:spPr>
          <a:xfrm>
            <a:off x="6324480" y="590400"/>
            <a:ext cx="262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000  (продолжение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24" name="Таблица 3" descr=""/>
          <p:cNvPicPr/>
          <p:nvPr/>
        </p:nvPicPr>
        <p:blipFill>
          <a:blip r:embed="rId1"/>
          <a:stretch/>
        </p:blipFill>
        <p:spPr>
          <a:xfrm>
            <a:off x="274680" y="2073240"/>
            <a:ext cx="8710560" cy="1785960"/>
          </a:xfrm>
          <a:prstGeom prst="rect">
            <a:avLst/>
          </a:prstGeom>
          <a:ln w="0">
            <a:noFill/>
          </a:ln>
        </p:spPr>
      </p:pic>
      <p:sp>
        <p:nvSpPr>
          <p:cNvPr id="225" name="Прямоугольник 4"/>
          <p:cNvSpPr/>
          <p:nvPr/>
        </p:nvSpPr>
        <p:spPr>
          <a:xfrm>
            <a:off x="304920" y="1074600"/>
            <a:ext cx="8645400" cy="119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aramond"/>
              </a:rPr>
              <a:t>таблица 3000 стр.1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=</a:t>
            </a:r>
            <a:r>
              <a:rPr b="1" i="1" lang="ru-RU" sz="2400" spc="-1" strike="noStrike">
                <a:solidFill>
                  <a:srgbClr val="ff0000"/>
                </a:solidFill>
                <a:latin typeface="Garamond"/>
              </a:rPr>
              <a:t> стр. 2+3+4+5+30+31+32+33+50+51+52+56+57+58+59+60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6" name="Прямоугольник 4"/>
          <p:cNvSpPr/>
          <p:nvPr/>
        </p:nvSpPr>
        <p:spPr>
          <a:xfrm>
            <a:off x="1558800" y="1905120"/>
            <a:ext cx="7391520" cy="5031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ормирования службы медицины катастроф, всего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1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ходят: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евой многопрофильный госпиталь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ие отря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ы экстренного реагирования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ы специализированной медицинской помощ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иамедицинские брига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0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ачебно-сестринские брига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ы экстренной доврачебной медицинской помощ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дные бригады скорой медицинской помощ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 противоэпидемические брига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0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тарно-эпидемиологические отря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тарно-эпидемиологические брига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 радиационной разведк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6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 санитарно-эпидемиологической разведк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7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 химической (токсикологической) разведк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8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тивная  группа ТЦМК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9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е формирования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60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125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29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35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4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14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1"/>
          <p:cNvSpPr/>
          <p:nvPr/>
        </p:nvSpPr>
        <p:spPr>
          <a:xfrm>
            <a:off x="414360" y="6858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чрезвычайных ситуациях (ЧС), числе пострадавших, видам оказанной помощи и степени тяжест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8" name="Прямоугольник 2"/>
          <p:cNvSpPr/>
          <p:nvPr/>
        </p:nvSpPr>
        <p:spPr>
          <a:xfrm>
            <a:off x="604800" y="4495680"/>
            <a:ext cx="8153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е о ЧС с медико-санитарными последствиями должны соответствовать, представленным донесениям в ВСЕРОССИЙСКУЮ СИСТЕМУ ОПЕРАТИВНЫХ ДОНЕСЕНИЙ О ЧРЕЗВЫЧАЙНЫХ СИТУАЦИЯХ в ВЦМК «ЗАЩИТА»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2308320" y="1495440"/>
            <a:ext cx="4257720" cy="27147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125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61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67" dur="1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68" dur="1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69" dur="1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Прямоугольник 1"/>
          <p:cNvSpPr/>
          <p:nvPr/>
        </p:nvSpPr>
        <p:spPr>
          <a:xfrm>
            <a:off x="423720" y="60948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чрезвычайных ситуациях (ЧС), числе пострадавших, видам оказанной помощи и степени тяжест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1" name="Прямоугольник 2"/>
          <p:cNvSpPr/>
          <p:nvPr/>
        </p:nvSpPr>
        <p:spPr>
          <a:xfrm>
            <a:off x="408240" y="137160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32" name="Таблица 8" descr=""/>
          <p:cNvPicPr/>
          <p:nvPr/>
        </p:nvPicPr>
        <p:blipFill>
          <a:blip r:embed="rId1"/>
          <a:stretch/>
        </p:blipFill>
        <p:spPr>
          <a:xfrm>
            <a:off x="401760" y="1633680"/>
            <a:ext cx="8218440" cy="320040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4"/>
          <p:cNvSpPr/>
          <p:nvPr/>
        </p:nvSpPr>
        <p:spPr>
          <a:xfrm>
            <a:off x="542880" y="4863960"/>
            <a:ext cx="809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острадавших = число пораженных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погибших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4" name="Прямоугольник 5"/>
          <p:cNvSpPr/>
          <p:nvPr/>
        </p:nvSpPr>
        <p:spPr>
          <a:xfrm>
            <a:off x="228600" y="5334120"/>
            <a:ext cx="872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огибшими (графа 8 и 9)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читаются люди, которые умерли на месте ЧС,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до прибытия бригад СМП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5" name="Прямоугольник 6"/>
          <p:cNvSpPr/>
          <p:nvPr/>
        </p:nvSpPr>
        <p:spPr>
          <a:xfrm>
            <a:off x="652320" y="60418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ораженных = числу крайне тяжелых + тяжелых +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+ средней тяжести + легких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6" dur="125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78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84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91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197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7750"/>
                            </p:stCondLst>
                            <p:childTnLst>
                              <p:par>
                                <p:cTn id="203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Прямоугольник 2"/>
          <p:cNvSpPr/>
          <p:nvPr/>
        </p:nvSpPr>
        <p:spPr>
          <a:xfrm>
            <a:off x="6315120" y="679320"/>
            <a:ext cx="262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  (продолжение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482760" y="1049400"/>
          <a:ext cx="8458200" cy="2333520"/>
        </p:xfrm>
        <a:graphic>
          <a:graphicData uri="http://schemas.openxmlformats.org/drawingml/2006/table">
            <a:tbl>
              <a:tblPr/>
              <a:tblGrid>
                <a:gridCol w="1447560"/>
                <a:gridCol w="457200"/>
                <a:gridCol w="914400"/>
                <a:gridCol w="762120"/>
                <a:gridCol w="609480"/>
                <a:gridCol w="609840"/>
                <a:gridCol w="990360"/>
                <a:gridCol w="838440"/>
                <a:gridCol w="1041120"/>
                <a:gridCol w="787680"/>
              </a:tblGrid>
              <a:tr h="411120">
                <a:tc rowSpan="3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 чрезвычайных ситу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исло пораженных, которым оказана первая помощ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ды оказанн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рвич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дико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анитар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пециализированная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т.ч., высоко-технологич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корая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т.ч. скорая  специализирован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57600" rIns="5760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8" name="Прямоугольник 3"/>
          <p:cNvSpPr/>
          <p:nvPr/>
        </p:nvSpPr>
        <p:spPr>
          <a:xfrm>
            <a:off x="423720" y="34290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ораженных 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6/7)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9" name="Прямоугольник 3"/>
          <p:cNvSpPr/>
          <p:nvPr/>
        </p:nvSpPr>
        <p:spPr>
          <a:xfrm>
            <a:off x="1473120" y="379872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ораженных, которым оказана первая помощь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18/19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первичная медико-санитарная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20/2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специализированная, в т.ч. высокотехнологичная 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22/2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скорая, в т.ч. скорая специализированная мед.помощь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24/25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0" name="Прямоугольник 4"/>
          <p:cNvSpPr/>
          <p:nvPr/>
        </p:nvSpPr>
        <p:spPr>
          <a:xfrm>
            <a:off x="1158840" y="5003640"/>
            <a:ext cx="661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.е. одному пострадавшему в ЧС может быть оказано несколько видов медицинской помощи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1" name="Прямоугольник 6"/>
          <p:cNvSpPr/>
          <p:nvPr/>
        </p:nvSpPr>
        <p:spPr>
          <a:xfrm>
            <a:off x="457200" y="5780160"/>
            <a:ext cx="8686800" cy="106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едеральный закон № 323 от 21.11.2011г.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 основах охраны здоровья граждан в Российской Федерации»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. с 31 по 35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43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опов</dc:creator>
  <dc:description/>
  <dc:language>en-US</dc:language>
  <cp:lastModifiedBy>Администратор</cp:lastModifiedBy>
  <cp:lastPrinted>2016-12-07T09:58:05Z</cp:lastPrinted>
  <dcterms:modified xsi:type="dcterms:W3CDTF">2020-12-02T06:47:34Z</dcterms:modified>
  <cp:revision>57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